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4165007"/>
        <c:axId val="69258993"/>
      </c:barChart>
      <c:catAx>
        <c:axId val="2416500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9258993"/>
        <c:crosses val="autoZero"/>
        <c:auto val="1"/>
        <c:lblAlgn val="ctr"/>
        <c:lblOffset val="100"/>
        <c:noMultiLvlLbl val="0"/>
      </c:catAx>
      <c:valAx>
        <c:axId val="6925899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416500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C31CE-8753-4CFB-80C6-BFF7E16B5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02707-3142-4658-BCAC-7E31B6BD3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32B46-B72F-417C-B578-3209B6385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9DE73-E103-4D62-B67A-4A89CA294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405C7-B3DF-45E9-8CBE-84980B6AC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F7673-2443-4E65-9232-3043A26D9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7671B-B99E-4776-84B3-86EDB52DB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55AB0-554A-4C57-9E60-EDAE5B73F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54918-502B-446A-B4AA-B7DCA372E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E8274-7AE1-4213-9227-1B43051F3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38F6A-7269-4B84-A8D1-C8BB2114F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D2225-60CF-4D05-AC7C-7501318DC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5A949-0295-403F-85C0-B9944324B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972F5-E451-47B6-9BFB-56097C957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F6B31-7BEE-4791-85FF-0688D61C1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870CC-F744-4B5C-A48A-3AFFCFD88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5FBF6-735C-4227-9F15-DEC7D9675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EDD7E-D377-45BB-BF74-A4C7A04A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D121E-ECE4-43C6-A2C6-F6C3C32FE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04466-9A71-4E55-B55B-5717C788F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3461-B1CA-4F30-8A13-5E315652D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B9447-5CA1-4091-9091-F28996FBB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18E77-272E-4D40-BC15-3EE6EAEF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C855D-9B0B-4587-B29F-87F51DBE1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F42860-580E-4790-8D5D-3D7FB783CE8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0E86CF-BA77-4072-98D1-E14B388415A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2011320" y="1828800"/>
            <a:ext cx="6294600" cy="447984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