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1794694"/>
        <c:axId val="97573259"/>
      </c:barChart>
      <c:catAx>
        <c:axId val="9179469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7573259"/>
        <c:crosses val="autoZero"/>
        <c:auto val="1"/>
        <c:lblAlgn val="ctr"/>
        <c:lblOffset val="100"/>
        <c:noMultiLvlLbl val="0"/>
      </c:catAx>
      <c:valAx>
        <c:axId val="9757325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179469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8CDF7-F75A-4C4E-AC3C-0D035B246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17F5-BEA2-478C-B917-E989EA235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34049-1E40-4E75-8A08-75CBE67B5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B71D4-2982-4687-8013-27AFFCA9D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EC134-DC17-4C7B-A429-FA63C5D21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A046A-0C7A-4750-9188-A2F89B0EF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A5B3-AE65-44B1-96D2-CA62A329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603A0-228A-4D6D-8B52-A9C27566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C0CB7-7228-4699-ABD5-E2C7C1955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9BC60-EF86-425B-BC61-3E0DA386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D222-2F4F-45CE-A38F-8501F28A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F335B-C540-445A-926D-0FB465B1A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CE8B5-AFDC-4F41-8C67-F0DA464B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4BB7-79A8-4028-BFAA-9A57B8686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B7876-5503-466A-AD00-E23892EB3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54053-E0F5-4D5E-A0D3-0887610F9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621A0-A66C-47F5-BA89-8604DED1B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091F-FC7E-4093-8758-E1C6A564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8AE7-ADF4-4A83-808B-467F5172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BEDF-917E-494F-A236-B2F0DBCA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5B4DE-3CC9-4E95-9B85-C83D70A4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A8E0-7514-412E-A59E-AFF40259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7E74-7BA0-46B4-8616-A1B5AAB9C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2DF8-5D2D-4F20-979A-E8D0984E9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7AFC36-9C75-4CC9-9B4E-335198BB08D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00061-70E9-4C16-81CC-CA390C35B07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2011320" y="1828800"/>
            <a:ext cx="6294600" cy="447984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