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43C9-C018-40CF-A14E-F62EC2953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9A35-3552-4036-9A5E-D16A69B92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20B3-FACF-4E12-BAF1-3B5EA316B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156FF-DE9C-434F-8B3D-CE89A67BA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5EBE-8B33-4C51-B2F7-ED3081AA5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1936-819E-4845-A96E-4051EBAA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117C-0ACC-4A47-9DE3-1E243DF0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3095-2BE8-4D50-8BBC-8D86EA37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49CA-7449-478B-9FCE-5F2DC4BE6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CCF30-E1CF-47C6-8D6F-6752369D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51C0-7840-49D3-BF1B-EAF1BD05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3977-197D-4C6E-87D4-EB49ADFCC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0E39-21BE-4908-8B97-9E41F4038C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Arial"/>
              </a:rPr>
              <a:t>REMOTE ASSE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FILETYPE: PP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05T19:33:39Z</dcterms:created>
  <dc:creator>Josh Lenius</dc:creator>
  <dc:description/>
  <dc:language>en-US</dc:language>
  <cp:lastModifiedBy>Josh Lenius</cp:lastModifiedBy>
  <dcterms:modified xsi:type="dcterms:W3CDTF">2018-03-05T19:34:59Z</dcterms:modified>
  <cp:revision>3</cp:revision>
  <dc:subject/>
  <dc:title>REMOTE ASSET</dc:title>
</cp:coreProperties>
</file>