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7A17-47FD-4C25-B320-7EB5FBC8C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1FDE-2BE8-42E2-A4B3-950EE2255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45E8-B32B-4E2D-B968-BC08CD8E7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0760-5F9D-49F5-9BE4-20EFAD614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66E3-7567-4CA6-9159-9B5DC8F74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5DE7-82B5-43A5-9D39-94553E8DC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7CBD-6A7E-459A-A968-0BF1688A5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CCAC-D9DC-49A9-8ABA-0A3463937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BB90-CE45-4F36-92CC-F017AB178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F250-91A1-440F-9AC4-91732B351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879D-1F12-42EC-9B7A-2DE2B9411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D9C7-3174-47B9-9685-6F45F376E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89A50-54B7-41C4-AFD8-B9DC358C98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0T11:54:09Z</dcterms:created>
  <dc:creator/>
  <dc:description/>
  <dc:language>en-US</dc:language>
  <cp:lastModifiedBy>Alexey Zhilin</cp:lastModifiedBy>
  <dcterms:modified xsi:type="dcterms:W3CDTF">2009-01-26T12:07:37Z</dcterms:modified>
  <cp:revision>7</cp:revision>
  <dc:subject/>
  <dc:title>Slide 1</dc:title>
</cp:coreProperties>
</file>